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8C6-E26D-457C-A63F-6E91E212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AB0-36CE-492A-B6E3-8DDB237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6D2-AEC5-4E72-B87B-8CDE8158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DE2-4873-48DC-957A-F2EEF7FE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7446-B2C1-4721-88E3-26BB5C35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0D4C-1FC8-4A00-9476-1B3EF06D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1911-C4BC-4ACD-A547-353ABF6E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D41-800D-40E7-AE53-F27EF066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9B4A-F0E0-46CC-A029-1A1BE0B1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A0B1-B9B9-4B2A-8FF6-2ECFDA1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6FD-A9D2-4082-8877-B9AECB9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100-F005-4ABE-877B-7D250D8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EC03-9EC3-43A5-9FDE-928D67C6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15ED-0AEC-4ABD-90E2-1EBD6AD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DC0A-C864-45DC-B440-648BE7C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681F-0341-46B1-89C6-27F025A7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F8C6-D201-43CA-82D4-2B52AA27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8D8-EFF4-4C4A-8DA8-371D15F8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739-321F-49C5-B017-85BE07ED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15B-9482-479A-9625-47AB887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DE1-B0C4-464F-90E8-4622CBAF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6D2-3C5C-4668-8AE1-AAA25FE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E27-F3FE-470E-B6B0-F7263079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3A1-1260-4731-89BB-D171994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EC4-A367-446D-BCCC-BFBFD526C360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prstGeom prst="pie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9CDF-B820-41B9-A330-F40A6667C71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Horace%20and%20Morris%20but%20Mostly%20delores.htm" TargetMode="External"/><Relationship Id="rId2" Type="http://schemas.openxmlformats.org/officeDocument/2006/relationships/hyperlink" Target="http://www.scottsboro.org/~flewis/SF%20Reading%20Street/spellmaster/Horace%20and%20Morris/jigword2.html" TargetMode="External"/><Relationship Id="rId3" Type="http://schemas.openxmlformats.org/officeDocument/2006/relationships/hyperlink" Target="http://www.scottsboro.org/~flewis/SF%20Reading%20Street/spellmaster/Horace%20and%20Morris/matchword2.html" TargetMode="External"/><Relationship Id="rId4" Type="http://schemas.openxmlformats.org/officeDocument/2006/relationships/hyperlink" Target="http://www.scottsboro.org/~flewis/SF%20Reading%20Street/spellmaster/Horace%20and%20Morris/speedword2.html" TargetMode="External"/><Relationship Id="rId5" Type="http://schemas.openxmlformats.org/officeDocument/2006/relationships/hyperlink" Target="http://www.scottsboro.org/~flewis/SF%20Reading%20Street/spellmaster/Horace%20and%20Morris/wordsearch2.html" TargetMode="External"/><Relationship Id="rId6" Type="http://schemas.openxmlformats.org/officeDocument/2006/relationships/hyperlink" Target="http://www.scottsboro.org/~flewis/SF%20Reading%20Street/spellmaster/Horace%20and%20Morris/wordweb.html" TargetMode="External"/><Relationship Id="rId7" Type="http://schemas.openxmlformats.org/officeDocument/2006/relationships/hyperlink" Target="http://www.spellingcity.com/index.php?option=com_spellcity&amp;task=viewList&amp;listId=825647" TargetMode="External"/><Relationship Id="rId8" Type="http://schemas.openxmlformats.org/officeDocument/2006/relationships/hyperlink" Target="http://www.spellingcity.com/index.php?option=com_spellcity&amp;task=viewList&amp;listId=825650" TargetMode="External"/><Relationship Id="rId9" Type="http://schemas.openxmlformats.org/officeDocument/2006/relationships/hyperlink" Target="http://www.scottsboro.org/~flewis/SF%20Reading%20Street/spellmaster/Horace%20and%20Morris%20Spelling%20Words/speedword2.html" TargetMode="External"/><Relationship Id="rId10" Type="http://schemas.openxmlformats.org/officeDocument/2006/relationships/hyperlink" Target="http://www.scottsboro.org/~flewis/SF%20Reading%20Street/spellmaster/Horace%20and%20Morris%20Spelling%20Words/wordweb.html" TargetMode="External"/><Relationship Id="rId11" Type="http://schemas.openxmlformats.org/officeDocument/2006/relationships/hyperlink" Target="http://www.quia.com/jg/1297316.html" TargetMode="External"/><Relationship Id="rId12" Type="http://schemas.openxmlformats.org/officeDocument/2006/relationships/hyperlink" Target="http://www.spellingcity.com/index.php?option=com_spellcity&amp;Itemid=122&amp;task=viewList&amp;listId=354280" TargetMode="External"/><Relationship Id="rId13" Type="http://schemas.openxmlformats.org/officeDocument/2006/relationships/hyperlink" Target="http://www.spellingcity.com/index.php?option=com_spellcity&amp;task=viewList&amp;listId=825653" TargetMode="External"/><Relationship Id="rId14" Type="http://schemas.openxmlformats.org/officeDocument/2006/relationships/hyperlink" Target="http://www.spellingcity.com/index.php?option=com_spellcity&amp;task=viewList&amp;listId=825653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woodmanor.net/images/clubhouse%2520left%2520back%2520side%2520mask.jpg&amp;imgrefurl=http://woodmanor.net/clubhouse.html&amp;usg=__ADs4nQUJySlXHmox0R-mKDJhyzA=&amp;h=324&amp;w=432&amp;sz=31&amp;hl=EN&amp;start=5&amp;tbnid=yaN1MStGo3Q1oM:&amp;tbnh=95&amp;tbnw=126&amp;prev=/images?q=clubhouse&amp;gbv=2&amp;hl=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bettersheds.com/cedar/clubhouse350bg.jpg&amp;imgrefurl=http://www.bettersheds.com/cedar/clubhouse.htm&amp;usg=__X6YYHnJRXoFhyQFmOCXcTFxcJaw=&amp;h=318&amp;w=350&amp;sz=41&amp;hl=EN&amp;start=7&amp;tbnid=6PpS8IeydfZJTM:&amp;tbnh=109&amp;tbnw=120&amp;prev=/images?q=clubhouse&amp;gbv=2&amp;hl=E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www.westsounddesign.com/clubhouse/clubhouse.gif&amp;imgrefurl=http://www.westsounddesign.com/clubhouse/&amp;usg=__vVrC19iIJdU20g9s9J0senmDykk=&amp;h=264&amp;w=288&amp;sz=31&amp;hl=EN&amp;start=12&amp;tbnid=JJ9HSXii5Gr-HM:&amp;tbnh=105&amp;tbnw=115&amp;prev=/images?q=clubhouse&amp;gbv=2&amp;hl=EN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7.xml"/><Relationship Id="rId3" Type="http://schemas.openxmlformats.org/officeDocument/2006/relationships/slide" Target="slide72.xml"/><Relationship Id="rId4" Type="http://schemas.openxmlformats.org/officeDocument/2006/relationships/slide" Target="slide104.xml"/><Relationship Id="rId5" Type="http://schemas.openxmlformats.org/officeDocument/2006/relationships/slide" Target="slide138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55600"/>
            <a:ext cx="7772400" cy="4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0" descr="Horace and Morris"/>
          <p:cNvPicPr/>
          <p:nvPr/>
        </p:nvPicPr>
        <p:blipFill>
          <a:blip r:embed="rId1"/>
          <a:stretch/>
        </p:blipFill>
        <p:spPr>
          <a:xfrm>
            <a:off x="2743200" y="2514600"/>
            <a:ext cx="365616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th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ople.  Som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ob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nt to se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circ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ara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elp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enny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make popcor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she, u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new friend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uilt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club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hey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’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we will read about children who play on a soccer tea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ednes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you and a friend had a disagreemen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photographs show that they like working and laughing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hotograp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how that they like working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ugh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tribute to Discuss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told Mom I shall redo my graph even though I disag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d said most people at the photo shoot were pleasan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will probably rewind the tape so we can replay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mind if we remount the sign on a tough, new post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lot of coats are bought and sold when it is col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m said she would be scared if she saw a child try to preheat a sto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onics: ph, gh,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’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jamie and Marge has work too do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Jamie and Marge have work to do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ill They work togeter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ill they work together?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the difference between the pronoun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ch pronouns are used as subjects of a sentence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 – pre – ci – a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feel grateful or thankful for someth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ow hard our mother work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aving a friend who is always nice to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gifts we get for our birthday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’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ontribute to Discussio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eak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Take turns speaking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loudly enough to be hea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clearly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upport your ideas with facts when you ca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ve Listen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Listen respectfully to other speak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Ask questions to seek information, explanations, and clarifi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Respond constructively to ideas of oth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king connections:  Text to Tex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read a story about children who play on a soccer team.  Tomorrow we will read about the friends agai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fairness and respec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447920" y="190512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characters who worked hard at being good friend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's not always easy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es it mean to b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friend or neighbor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 – mu – ni - cat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a person, you talk to each other or keep in touch in other ways such as writing or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My friends and 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each other every day during lunch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my grandmother by e-mail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Jane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s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her hearing-impaired friend by using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heard you laugh while on the phon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is tough to say the alphabet backwards!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n draw a rough sketch of a dolphi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 took enough photos of his nephew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____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___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___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____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___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___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 – spe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feeling of high regard you have for another pers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one, you admire that person and think a lot of him or he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ur principal has 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ll students in the schoo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hildren should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ir parent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mayor for making our city a better place to li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”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Rhyming Words 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climbed to the top of th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e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clubhouse with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wondered what we 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adventure!”  I said, out of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greatest -no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truest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y phriend call me on the pho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My friend called me on the phone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made me  lauff.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made me la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Tabl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 can use a table to show information and make it easier to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itle tells what the table is abou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s are shaped like box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oxes contain words or numbers arranged in rows and column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s tell what information is being give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ws go across and columns go up and dow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Mouse Club Members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85800" y="1981080"/>
          <a:ext cx="7772400" cy="382608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676160"/>
                <a:gridCol w="1447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ega Mice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7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se Puff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sky Whisker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Wrap Up Your Week!</a:t>
            </a:r>
            <a:endParaRPr b="0" i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t’s Talk Abou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how to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w respect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PTPlus Videos </a:t>
            </a:r>
            <a:br>
              <a:rPr sz="44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(password required)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riendship Day (09:5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Friendship Stone (10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ocky Friendship (10:2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cus on Friendship (17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Keep Your Wandering Eye to Yourself (22:34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The Truth Hurts (22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ep and the Big Wide World: Wandering Beaver/Peep's New Friend (22:0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Tick-illy Hiccup (12:3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Mumble Monster Picture Day (12:33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nnonball (28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nt (09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nty (07:07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ee Cheers for Catherine the Great! (20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am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do you know about the sound at the beginning of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 we will study other spellings for 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24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is a firefighter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sound you hear at the beginning of firefighter i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/f/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h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stand for the consonant sound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 phon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ug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gh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stand for the sound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 cough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Sound-Spelling Card"/>
          <p:cNvPicPr/>
          <p:nvPr/>
        </p:nvPicPr>
        <p:blipFill>
          <a:blip r:embed="rId1"/>
          <a:stretch/>
        </p:blipFill>
        <p:spPr>
          <a:xfrm>
            <a:off x="457200" y="1981080"/>
            <a:ext cx="2705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do you know about reading these words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ten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hen they follow a vowe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pha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Small</a:t>
            </a:r>
            <a:r>
              <a:rPr b="1" i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Group</a:t>
            </a:r>
            <a:r>
              <a:rPr b="1" i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54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Timer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Verdana"/>
              </a:rPr>
              <a:t>Making Word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0000"/>
                </a:solidFill>
                <a:latin typeface="Verdana"/>
                <a:ea typeface="Arial"/>
              </a:rPr>
              <a:t>a, e, o, u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Verdana"/>
                <a:ea typeface="Arial"/>
              </a:rPr>
              <a:t>g, h, l, n, p, r, s, t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a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hot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i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’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d Dog, Dodg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!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cribe some of the funny things Dodger di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think the author wanted to make us laugh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s have a reason for writing what they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y may want to teach us something, they may want us to believe something, or they may want to make us laugh or imagin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’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authors have more than one reason for writ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od readers ask themselves questions before, during, and after read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ing questions will help us understand the author’s reasons for writing the select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t was her fawlt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t was her fault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 august they will wak to  school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n August they will walk to school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has a new bike.  He can’t ride it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the subject of a sentence.  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rid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is riding his bike.  Angela helped him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lpe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’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her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’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the class will read about three friends who love to go on adventures together until they are faced with a decis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members that you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 them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mostly Dolores. These three mice are really good friends. What makes a really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st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lores. These three mice ar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s. What makes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blem and Solu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order someone to do something,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he or she does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asked me nicely to help him fix his bike, but he did no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do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clean my room on Saturday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polic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we move our car to a different parking sp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 – l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something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ay it in a determined way that shows you won’t chang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ld me I could not go outside until I cleaned my roo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speak nicely, bu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when I give commands to my do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 – van – tage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have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are in a better or more favorable position than someone els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Jason ran faster than the others, so he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r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Bob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ver Ray in getting the job because he had two years of experien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letters that make the consonant sou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sound do the letter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stand for in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consonant sound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8120" y="15235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ghing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l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0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ick out words with the sound /f/ in “In My Photo Album.”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8120" y="205704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raphic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ph, fh /f/</a:t>
            </a:r>
            <a:endParaRPr b="0" i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k at the photo of the giraffe I took at the zoo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t was tough, but we made it to the top of the cliff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 you have enough graph paper for math?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n exciting experien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ent upwar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best or most wonderfu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most real or loy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 house or structure where a group mee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going someplace to discover what it is lik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anted to know mor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downheart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very s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sew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underground pipes that carry away waste                </a:t>
            </a:r>
            <a:r>
              <a:rPr b="0" i="1" lang="en-US" sz="20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(next slide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lubhouse%2520left%2520back%2520side%2520ma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79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clubhouse350b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962520"/>
            <a:ext cx="2057400" cy="215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clubhous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017960"/>
            <a:ext cx="2286000" cy="208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clubhouse"/>
          <p:cNvPicPr/>
          <p:nvPr/>
        </p:nvPicPr>
        <p:blipFill>
          <a:blip r:embed="rId9"/>
          <a:stretch/>
        </p:blipFill>
        <p:spPr>
          <a:xfrm>
            <a:off x="3276720" y="1981080"/>
            <a:ext cx="2935080" cy="4114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Kids-Clubhouse---Hickory-Nu"/>
          <p:cNvPicPr/>
          <p:nvPr/>
        </p:nvPicPr>
        <p:blipFill>
          <a:blip r:embed="rId10"/>
          <a:stretch/>
        </p:blipFill>
        <p:spPr>
          <a:xfrm>
            <a:off x="6400800" y="1981080"/>
            <a:ext cx="20480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w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ewer1"/>
          <p:cNvPicPr/>
          <p:nvPr/>
        </p:nvPicPr>
        <p:blipFill>
          <a:blip r:embed="rId2"/>
          <a:stretch/>
        </p:blipFill>
        <p:spPr>
          <a:xfrm>
            <a:off x="3352680" y="419112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sewer4"/>
          <p:cNvPicPr/>
          <p:nvPr/>
        </p:nvPicPr>
        <p:blipFill>
          <a:blip r:embed="rId3"/>
          <a:stretch/>
        </p:blipFill>
        <p:spPr>
          <a:xfrm>
            <a:off x="3429000" y="2209680"/>
            <a:ext cx="2124000" cy="158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large_storm_sewer"/>
          <p:cNvPicPr/>
          <p:nvPr/>
        </p:nvPicPr>
        <p:blipFill>
          <a:blip r:embed="rId4"/>
          <a:stretch/>
        </p:blipFill>
        <p:spPr>
          <a:xfrm>
            <a:off x="685800" y="1981080"/>
            <a:ext cx="2590920" cy="2525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japanese-sewer-5"/>
          <p:cNvPicPr/>
          <p:nvPr/>
        </p:nvPicPr>
        <p:blipFill>
          <a:blip r:embed="rId5"/>
          <a:stretch/>
        </p:blipFill>
        <p:spPr>
          <a:xfrm>
            <a:off x="685800" y="4659480"/>
            <a:ext cx="2286000" cy="1465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sewer1"/>
          <p:cNvPicPr/>
          <p:nvPr/>
        </p:nvPicPr>
        <p:blipFill>
          <a:blip r:embed="rId6"/>
          <a:stretch/>
        </p:blipFill>
        <p:spPr>
          <a:xfrm>
            <a:off x="5638680" y="1981080"/>
            <a:ext cx="2838600" cy="2140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9" descr="Sewer_1"/>
          <p:cNvPicPr/>
          <p:nvPr/>
        </p:nvPicPr>
        <p:blipFill>
          <a:blip r:embed="rId7"/>
          <a:stretch/>
        </p:blipFill>
        <p:spPr>
          <a:xfrm>
            <a:off x="6019920" y="4305240"/>
            <a:ext cx="2428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heck Lesson Vocabular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dventur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onder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mb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eat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ru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ubhou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’t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context clues.  Read the words and sentences around the unknown word.  Are there other words nearby to help us figure out the meaning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figure out the meaning of an unfamiliar compound word if we know the meaning of the smaller wor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look for word endings in the unknown word.  Today we will learn more about the word ending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lot and Them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plot of this story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plot tells about events in the friendship of Horace, Morris, and Dolor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theme, or big idea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big idea is the importance of friendship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 will rite a si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 will write a sign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 laffed on the fone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He laughed on the phone.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brought a book to school. 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ill read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fter lunc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is the subject in the first sentences.  What pronoun took the place of Mrs. Rodriguez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oun book came after the action verb in the first sentence. What pronoun took the place of book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you will hear about Duck and his best friend, Bea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you felt left ou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greatest and truest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eat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u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 Consona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ding –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fi – ant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one is openly disobedient or challenging to someone else, that person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og would not get off the chai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aby brother wa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nd wouldn’t go to be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 - ro - cious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thing is powerful, violent, or fierce, it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lion looked for food to e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ear had a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grow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ig Question: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world with many people.  Some people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ap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br>
              <a:rPr sz="4400"/>
            </a:b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dventure, climbed, clubhouse, exploring, greatest, truest, wondered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d these sentences and tell whether they are true or false.  Change the sentences to make them mean the opposite while still using the vocabulary wo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atching a boring play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______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off the grou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____ the grou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want to play with all the ti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____ play wit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____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buy roller skat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meet with people who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may find and see new th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___ find anything new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wanted to find out if she could do th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knew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that Horace, Morris, and Dolores were very good frien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other way to describe people who are very good friends is to say they are “best friends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“most good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can help you remember that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“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mo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ending can be added to words to change their mean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xample, the word quick means “very fast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ding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quick to make quickest changes its meaning to the “most fast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 of other words you can add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didn’t play to 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didn’t play to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he has an rough coufh.  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has a rough co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66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25:41Z</dcterms:modified>
  <cp:revision>30</cp:revision>
  <dc:subject/>
  <dc:title>Slide 1</dc:title>
</cp:coreProperties>
</file>